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338-0DBB-4CE8-B20F-47EC3A23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B17-BBDE-4E80-B951-21558F47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72EE-CE9C-4FF6-9F86-9B9384C5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F7E-386B-4391-82F2-61BB4854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98F6-17D5-4215-8F66-35035544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D7D-F476-480C-9A00-8DDA24FA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614-96C6-44A3-890F-9CD79C7E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D9C-D549-4455-9BD7-FA09CD5A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0AD-A15A-49C3-9CC5-B767C987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0A9-8DCA-4DBB-8C90-A6B3CDB2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150-13CF-4B6C-B042-5CAFBCE3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F36-A981-4042-8DC3-B34C74B8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5142-296E-43DD-B55E-9FC789246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abyhi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619800" cy="3163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762120"/>
            <a:ext cx="33530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Baby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I’ve got you under my skin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ve_003" descr=""/>
          <p:cNvPicPr/>
          <p:nvPr/>
        </p:nvPicPr>
        <p:blipFill>
          <a:blip r:embed="rId2"/>
          <a:stretch/>
        </p:blipFill>
        <p:spPr>
          <a:xfrm>
            <a:off x="5638680" y="797040"/>
            <a:ext cx="1371600" cy="116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28800" y="376200"/>
            <a:ext cx="457200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Helen Steiner 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ee bit of heav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fted down from above 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ful of happines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eartful of l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ystery of lif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sacred and sweet 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iver of jo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deep and 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cious and priceles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lovable, too 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orld's sweetest miracl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by, is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by Steps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especially for you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di Cald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05:32:09Z</dcterms:created>
  <dc:creator>Marty Caldwell</dc:creator>
  <dc:description/>
  <dc:language>en-US</dc:language>
  <cp:lastModifiedBy>Marty Caldwell</cp:lastModifiedBy>
  <dcterms:modified xsi:type="dcterms:W3CDTF">2007-02-14T05:32:19Z</dcterms:modified>
  <cp:revision>1</cp:revision>
  <dc:subject/>
  <dc:title>PowerPoint Presentation</dc:title>
</cp:coreProperties>
</file>